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865-BE6A-4FB3-A369-A96B139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3E9-6021-45BE-A8B0-BCF6CD23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2914D-93AF-4343-A5DB-8C37A5B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25AD-1D0F-4FCE-A88F-6BF1377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39E1-CEA4-4842-A8BB-0F49957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5948-0C9C-48F7-9332-538C831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85BA3-AF5D-4682-9E6C-8160AAE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DC38-F72E-44C8-A3F5-55D1035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2BAB-754D-4EA0-A000-1782650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17B9-7353-46F8-8497-D2A19BF6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771E3-2917-4FDE-94E6-062A7B09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1CEB3-D880-4FD1-B878-46B51639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9E2-BC56-451E-B544-F6A2F42B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8A24-94D1-444E-94B8-E23ACC7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67593-443D-4749-B7EE-80835776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3A3DF-5FD9-4AF4-89C8-0D76C8B5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5E69B-242A-4E52-B42C-C1A2CD5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4756C-0791-4503-8B18-FBA95A0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1861C-EC66-457B-9382-69D3415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30CDD-DD16-4A47-B7F9-43E4845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4CED-D22F-4B67-B36C-C862AE4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B9C50-7A7D-4C51-9B14-64B944FB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F18A1-77C7-4838-9741-B3BE1079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11E-114F-4BD0-B8D8-5C7B893E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2D783-AF41-43F6-93A1-63EF325E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E921-2FD7-4AFE-85EF-66297F30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B5AC9-EB4D-4ECF-8E63-18170BD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8585-0521-4BA6-A114-900B2F5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8CECA-490B-478C-AC39-876968B0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46C9A-7C99-470B-83F6-6589530F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4E6BF-3D29-4D44-B1E5-AF7277E0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39FE-4421-43CD-A902-BC1645A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5EBD0-5205-4C40-B31B-D46E920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BAB29-C9A1-4CF9-AC0C-0BDABE3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8413-6734-4ACB-83D7-0262E789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EE3FF-A9B7-4AF9-B993-7289E96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87D7F-67B5-456B-B231-95C63ED1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10B58-5644-445C-9E4D-EC2D5C86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B4B20-EAD5-4A9E-AF81-E6DD4EA0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D485E-7576-4E67-B45D-52C17E1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5D134-EEA1-492B-9740-6C29FFA6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A460C-6BD3-4C29-A52A-CB8F00E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811C0-51E4-47EE-AA77-6046ED5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88272-A439-4C1B-9619-ED6D141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13F51-BE66-49DE-823E-8067D7E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D54-C165-4A60-8307-3E46785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9B901-FBDE-4180-8146-6D7DB7D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B96ED-88DB-4D60-8408-00068083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80654-F0F4-49C4-BFA0-4223103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F394-A8C9-4B51-94C2-4D59F389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FBC6F-51CD-4905-95CB-945A90C4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3CE5A-F165-42F8-B4CE-26367226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4CF0A-5B24-47A0-9496-9560737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8CCD-AF8B-40C1-ADA7-DB80C48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4E3DD-2F0C-4B9C-8392-19A7504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EE7E6-5584-49F0-BBE2-7A7B2481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0C57-A929-4958-B5C0-F0C0313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49D3E-4BD2-4514-AC07-5B635A0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20FB1-40C5-445B-AFD2-40BB1D3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3A3EF-16E5-4398-89D9-D3E6D6E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E1F51-8A0E-4316-A8A8-9377FC6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198BB-0B8A-4BDD-983F-82681F3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5E7A1-F864-4DD1-AC20-F70D8DAC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BA6B7-95D5-42A4-A097-4AFE11CD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781-FA9B-427B-8D08-6625506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6F7C-C29C-4F92-AF98-B69A8B8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69B4-EEDC-4516-90B4-AFB3977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489-70E1-423F-90F9-235F399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7CB-E16D-4C8B-996C-9381F9B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81F8-237E-4172-8C83-3074AF1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F4BE-15E8-4AF1-A764-33A93B1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A5C3-C33B-48AF-A068-A3D5062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6279-D70A-4267-A185-2E29386F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5476-6423-468B-AA16-9CA130C1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C487-323D-42DB-B777-912C1651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FD60-78C6-4D58-9BD0-BD037643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4D34-5F37-467C-A7FF-A5666BD8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7F3E-F98A-48B9-A2F1-9E47773E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2889-C772-430A-AC41-6F5C079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C17-9248-4E73-BA35-53F99D07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B6FB-CCF5-4102-BD90-9EFC552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62FC-060F-45DC-B4EF-F39177B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4F5A-A759-40D9-BE22-2E8A93A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9CB4-DBEB-4381-AD2D-51595F9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1E60-A270-43C4-842F-3AA1870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B013-E448-4DF8-AD58-0E81BA58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398C-AC6C-4276-B1E5-C7FDCD4A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8B28-FEC9-4FD4-B2F8-FA228C2D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6CAF-1B98-42C7-A6BD-280A57B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8376-AAA2-457F-AF3C-37E0BFE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676-27E7-4008-831D-0A75EBAA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28D6-859E-41AE-B71B-250E473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D5B2-AD40-4BBF-B9F5-6EE703B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FEDE-B8FC-4EE5-8D6E-CB8E075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29FB-5E3D-4BF7-A1D8-5C0B354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E904-3D4E-4900-9061-5F200CC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92E7-041A-424D-B180-D2F23864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9062-7AAD-4AF0-BB7C-6BFE424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CB54-F642-43BD-8E69-D0C4829C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1DBC-A981-44D7-A7AF-FD70017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CF4C-898F-4ED0-9E7F-B59EEA24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02A-60BF-4848-8B22-4BCB2AE1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081D-9C56-4934-A39B-05D5545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E4A7-BF25-459E-914B-A19F82D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B135-B9DB-4EC1-A6BF-A95161A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9A206-F01B-40E2-96EC-AEB3618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032B-9DE7-4FBC-B561-C723D6AE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2BCC-123B-46E2-BB54-E05CBC8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43D7-28CC-41AB-8D35-8E86C69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B20F-E039-44B8-A40B-F40E6B8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30D5-0400-4CD1-9515-1D8F161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777B-BDEF-4695-8E9B-C3E74C16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ACE-84DB-4376-AC49-0AB3C9E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CF0A-C2FC-46EE-94EB-D6F2E928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A7BA-03E9-4433-A84D-B1DE49DB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A21F-3E91-4E08-B76A-FC74EE90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3255-15C6-4754-9A78-92BBC02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5F9D-470F-4A31-982C-AEEA736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051F-39F5-4FC6-8B4A-8ED1995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C28C-B096-4181-B2E2-03FC9C0C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C7E2C-6D62-4E05-A603-0F1DF48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1F33-14C8-4EDB-BA20-D83D007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11CF-C7DD-42D8-A503-16ED418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1D-FF4E-4109-846E-827A73F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829C0-BF8B-48CB-9DD9-D9E1250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C5A3-C127-406C-8ED3-7199E6F5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A45C-9EAD-49F8-9A2B-908D79A7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E046-EDEB-4A78-871B-5A4F49C7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1C39-B3F2-49FD-8E43-6E2A99C2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A442-48AF-4FC9-9B5B-D99DC99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777C6-ADE1-44FD-8E1D-AF2D301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D32B-FEA6-49A1-A678-63653C8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E1B0-5888-4865-9C7F-2CE43C7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E54D-28D2-4EE4-89EA-862A158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3AA-0AA6-4B07-BB65-24C7A25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963F-48C9-4D18-97CA-CCEFA14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1CE6-0255-40EC-AC98-62569E3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3FDF-6A9F-44C4-BD83-A2E68BB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5950-12C4-432E-9CF7-F553AF2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FE7EC-60E2-4ED0-BB24-FD2D938E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896A-454C-44C0-A7BC-DDEA4AD3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99DFE-2ABB-47CB-A4C3-10D338B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7E4F-694E-4C6D-81CC-0D9438F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9C899-86CA-4434-844B-170CA66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5F84-9871-4735-A501-966B97A7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793-99DA-4589-9066-B303246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D22CC-12BF-4EDE-A898-4DE7796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E53D1-4423-4F61-8084-82CD55A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DC64-4F55-43DD-8798-A480020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11E82-9995-44BE-852A-20BE045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BCCF-B971-4041-BA69-70864EA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D99E-19F1-4F44-A250-A2D72981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DC9C-E314-4E18-B511-6DF7600A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A108-EBB3-4729-A9EB-ABC4C33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573B4-565D-43E2-9BC7-21B2C6A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E89C-B79B-49C8-8CA5-0D61FB9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51DE-A340-4EA1-B07F-4AE0F6F91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900-94DC-4C62-BC03-C59AB742F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CE8-D1B6-4073-8090-1AE3D4A66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2D5-389D-45E4-ACBA-1056858A3768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66AC-D6AB-4C25-A4FE-9BD42EE83A94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3DA-6B5C-419D-BB9B-69757360F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3E0-0189-483A-81AA-86B5F059B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119D-001D-4869-A24D-FC76670F8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ED2-7CB9-4C72-9C40-B198D5C08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0E1-DC52-4D70-8A55-8C63951E2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6EC0-8E1B-4B00-978C-80A1AAB26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6DE-CF19-45F1-8025-FA36823AB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931-475F-40EE-9886-053104E2D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b/CHF_coins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commons/f/f4/CHF_Banknotes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Genf_Cath&#233;drale_St-Pierr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GÈNE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11760" cy="391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mange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85840" y="2362320"/>
            <a:ext cx="70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s Tilleul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(délicieuses pizzas cuites au feu de bois-spécialités italienne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 bistrot 37°2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méditerranéenne- spécialités marocai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afé Fontaine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u marché, innovante et créa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Bamboo Garden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e Corée, de Chine, de  Malaisie et d’Indonés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 rot="20313000">
            <a:off x="323640" y="404280"/>
            <a:ext cx="2774880" cy="2173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108000" y="3213000"/>
            <a:ext cx="19954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lle est le climat dans cette ville d’après les saisons 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828960" cy="2870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267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h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610160"/>
            <a:ext cx="267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é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se procurer de l’argent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Bureaux de Change à Genè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oney &amp; Com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pl. de Montbrillant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av. Louis-Casaï 2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BNC Change (Suisse)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e Zurich 3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uro change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Paul-Bouchet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hange Cendrier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Cendrier 1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Mont-Blanc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789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Quelle est la monnaie du pays 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franc suisse (CHF) est utilisé par la Sui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  0,77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1,08 Dol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 --4,39 Peso Argen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499px-CHF_coins" descr="Archivo:CHF coi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0360" y="4799160"/>
            <a:ext cx="1619280" cy="1942920"/>
          </a:xfrm>
          <a:prstGeom prst="rect">
            <a:avLst/>
          </a:prstGeom>
          <a:ln w="0">
            <a:noFill/>
          </a:ln>
        </p:spPr>
      </p:pic>
      <p:pic>
        <p:nvPicPr>
          <p:cNvPr id="582" name="CHF_Banknotes" descr="Archivo:CHF Bankno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484280"/>
            <a:ext cx="1841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  <a:ea typeface="Calibri"/>
              </a:rPr>
              <a:t>Où est situé le pays choisi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71760" y="1285920"/>
            <a:ext cx="3071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SUIS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st un pays d'Europe de l'Ouest sans accès à la m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le est entourée par l’Allemagne, la France, l’Italie, l’Autriche et le Liechte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pays est formé avec 26 cant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a capitale est Ber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0 Imagen" descr="713px-Europe-Switzerland.svg.png"/>
          <p:cNvPicPr/>
          <p:nvPr/>
        </p:nvPicPr>
        <p:blipFill>
          <a:blip r:embed="rId1"/>
          <a:stretch/>
        </p:blipFill>
        <p:spPr>
          <a:xfrm>
            <a:off x="357120" y="1285920"/>
            <a:ext cx="561204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Où est située la ville choisie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ÈN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st le deuxième ville du pays avec 188 142 habi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st située sur les berges du lac de Genève au pied des Al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lle abrite le siège européen des Nations-U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 faire dans cette ville ?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90252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Lac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a Vieille Vill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Bâtiment des Nations Unies et le Musée de la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roix-Roug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arc du Bastion et la Place Neu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âquis et Les Grotte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Marché aux Puces de Plainpalai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Salè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Fêtes et Manifestations Cultu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Monuments: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ur des Réformateurs, l'Horloge Fleurie, le Monument Brunswick, le Jet d'eau et le Palais des Nations, La Cathédrale Saint-Pierre, le Musée international de la Réfor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5689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et d’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800px-Genf_Cathédrale_St-Pierre" descr="Fichier:Genf Cathédrale St-Pier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9145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643280" y="189000"/>
            <a:ext cx="5689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thédrale Saint-Pier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rg_hi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2905200" cy="2808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55640" y="4797360"/>
            <a:ext cx="5689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âtiment des Nation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es et le Musée de l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oix-Ro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400px-Jet-d%27eau-Genève" descr="Fichier:Jet-d'eau-Genève.jpg"/>
          <p:cNvPicPr/>
          <p:nvPr/>
        </p:nvPicPr>
        <p:blipFill>
          <a:blip r:embed="rId4"/>
          <a:stretch/>
        </p:blipFill>
        <p:spPr>
          <a:xfrm>
            <a:off x="971640" y="83664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5111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carouge" descr="Carouge, Suiza"/>
          <p:cNvPicPr/>
          <p:nvPr/>
        </p:nvPicPr>
        <p:blipFill>
          <a:blip r:embed="rId1"/>
          <a:stretch/>
        </p:blipFill>
        <p:spPr>
          <a:xfrm>
            <a:off x="1042920" y="907920"/>
            <a:ext cx="3600360" cy="25210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527280" y="4770360"/>
            <a:ext cx="561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media-12125" descr="4966_1120855114513_1621127854_322301_5478568_n.jpg"/>
          <p:cNvPicPr/>
          <p:nvPr/>
        </p:nvPicPr>
        <p:blipFill>
          <a:blip r:embed="rId2"/>
          <a:stretch/>
        </p:blipFill>
        <p:spPr>
          <a:xfrm>
            <a:off x="395280" y="3716280"/>
            <a:ext cx="3024360" cy="2800440"/>
          </a:xfrm>
          <a:prstGeom prst="rect">
            <a:avLst/>
          </a:prstGeom>
          <a:ln w="0">
            <a:noFill/>
          </a:ln>
        </p:spPr>
      </p:pic>
      <p:pic>
        <p:nvPicPr>
          <p:cNvPr id="557" name="il_fi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086280" cy="2136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148360" y="333360"/>
            <a:ext cx="511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ieille-vi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ffcc"/>
                </a:solidFill>
                <a:uFillTx/>
                <a:latin typeface="Tahoma"/>
              </a:rPr>
              <a:t>L´impératrice Sis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0" name="il_fi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7512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arriver à Genève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avio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la ro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trai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394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se déplacer dans la ville ?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 rot="20838000">
            <a:off x="493200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 rot="555600">
            <a:off x="6227280" y="4797000"/>
            <a:ext cx="2190960" cy="164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dormi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es Arcad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id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St Gerv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moy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Admi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Capito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Des Al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Hotel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övenpick Hotel &amp; Casino Gene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lein aux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Mandarin Orient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5:06:16Z</dcterms:created>
  <dc:creator>SOFIA ANTOGNINI</dc:creator>
  <dc:description/>
  <dc:language>en-US</dc:language>
  <cp:lastModifiedBy>Usuario</cp:lastModifiedBy>
  <dcterms:modified xsi:type="dcterms:W3CDTF">2011-04-07T17:43:58Z</dcterms:modified>
  <cp:revision>9</cp:revision>
  <dc:subject/>
  <dc:title>Où est situé le pays choisi? </dc:title>
</cp:coreProperties>
</file>